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0FE-8E37-4B44-8127-8FC72060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FF7-52FF-4D94-B20D-561F28B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9AC-9FB1-42D0-88D3-EDBD890B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3DC-FD76-4108-AD37-B88CA38B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A388-472D-429B-A1A6-1055A976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EA7-3FD6-486D-B875-B7A33C67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E49-BCA2-420E-9FDD-CC1A817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BDF-CD37-404F-9B60-7F5B015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67ED-FB1D-4E63-9276-6071626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134-7FD4-4C2D-92A4-918038E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C15-7FAC-42D0-AAF2-C6EAF2D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CD7-65E8-48DB-AE7C-BDC581FE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5D02-13B3-46D8-BCE6-2CC0FF18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8C3-39A4-4700-8C30-6D7DD6BE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6A91-8821-457E-8F71-3BEE91A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A822-CCAD-46F4-84F5-32569B90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792F-9671-470D-8876-7FC346D9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61D7-697E-4D4F-80D2-94147D4C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6F96-9D1A-4A19-B8B3-4718B17D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3487-E782-4BB7-B679-658868A4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D46A-2C77-46F2-B027-AF12E178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9123-6ABD-41DD-9981-3EC56DD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8FB-3ADC-4A6D-B440-6F8D648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F33D-3691-47B4-B8FA-3E20CED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143F-1CAB-48BB-B69A-117F318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2587-9ED8-4558-BE92-11FE71FD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31CD-08AF-4F27-BA73-BB68AFD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AE9C-4D04-4EA2-A416-B00D132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83ED-3443-4720-A357-CD1AB940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99DD-350C-4DB4-BD60-48F69BB0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367A-0962-4E7D-8F90-BD7ED5F6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0A6C-C2B0-4EBC-8B64-B25E9FC8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BC9B-CC2B-4577-8E5F-DFEC869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8B2-E19B-48BE-AD22-E2626973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5B45-7232-40E4-90CF-D83305F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E4FC-2D32-4341-9FA3-32925FDE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B26F-CA2B-494A-BA24-9868DBD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E85A-70B7-465E-937D-B18E8EB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96EE-CCC8-48DE-8551-932250E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7158-A84E-463C-9F0A-203953A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A8BA-406C-4576-9CE9-34610AAB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69F1-FAD3-4164-BC88-D6744D23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A42B-3DF8-4369-9843-81FBF55A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36F7-A9F4-4825-B660-EC674463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BE4-0A73-4131-B3F0-167A29F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1161A-2E17-4AEB-B915-1B71BE4D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ED0B-D71E-4955-99E3-413A014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5121-9385-4D6C-8B70-22D9E42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CE1CB-89C7-4C1B-A31A-55AE508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C249-E28A-4DDE-92E5-134BE26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839C-6A91-4EAC-829A-E9B940EC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66571-C275-40E4-BB3E-B59674E8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1DA8-CE20-43B1-9FB4-2D304CC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5C8A-D9E9-4AB2-85A5-44B57A97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0921-0920-458C-AD26-673ED0CF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ED6-DAB6-4197-9ABF-651492C1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DAB4-2464-4447-BFAC-024BD4CA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FBE6-EBBB-47DC-9F69-75CC936C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D242F-D02D-49C7-A240-60CA0CD3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A7E55-0190-4A75-9895-58A6A64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ED1C-56A2-4B57-A3D1-0DB0CAE1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4F5DF-6D15-4AC8-87E9-0BCE991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3951-BC1D-4E29-A0D2-ABD536E5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3383C-E3D7-414F-9C31-EDD4958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6C41-2A19-4F13-ABC7-F062B39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9A52A-D238-4FA9-8AEE-584E5FC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A5B-0FF2-43C7-A2ED-BCD868F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1756-146D-4D20-91AC-4B42589B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4146-635A-4679-9C91-39DB20A2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661F-080D-4F81-9F60-3647CDFD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FB60-206D-4C84-B481-D83537F7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31B2F-765F-4158-8F75-B2C36CF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0AEB0-D036-480C-8B8D-2AACC636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D6E4-6814-4C9F-BE4E-7A7E663A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31E9B-C61D-4601-AE65-A270F6CC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DCA0-7234-4B5B-8743-C8836195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3DEF-CC7B-4225-A355-B5F7167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7F3-C8D4-4E2E-AE56-33A38DA7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D606A-294F-4A37-961B-5281BFD3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0051-F5AB-49D8-BD90-3620719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2D88-1741-4993-955D-58E8D20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831A-A8BA-4B02-97D5-5C714301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A9229-615C-48C0-9721-EEDC056B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8BCD-ABFD-40C8-BADA-7E6644D3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00F9D-42EA-4872-B620-FA32DC4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8CA25-28B2-482B-A120-D7585BC6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427A3-6629-48F6-B7D5-0A638293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1F93-F082-49F7-AF5D-3DB0F035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5EF-596D-447F-8C7D-122C65C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8210-4F50-4415-B828-2CC8D0E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8B9E-E497-43B4-A00A-81E0BFB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EDAF2-7A67-4B32-9E1A-2C86784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4998B-D7D3-42A1-A369-253F403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4BC2C-07BD-456E-A047-EE787966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C4B95-A1B2-4286-96AF-DE079B7D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F4FE4-3EC8-47C4-A2AC-0B9A2146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86E-AE99-4D11-9833-DDF3223B8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DDCE-D725-4084-815A-EE741B95AB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2BFF-C107-4AB9-8F7C-0101E8FD6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89E8-1A48-4438-9081-564B48385B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FC1-4FF8-4A8E-AF4B-15FF9EF2D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4B0-7BFC-4834-982E-DC0435BB9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A1B6-4410-4318-A5E6-6B1BC825C95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E3E-CE21-45E6-9B3C-14AA067D085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ante_Alighieri" TargetMode="External"/><Relationship Id="rId2" Type="http://schemas.openxmlformats.org/officeDocument/2006/relationships/hyperlink" Target="http://historymedren.about.com/library/who/blwwdante.htm" TargetMode="Externa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ttp://t0.gstatic.com/images?q=tbn:ANd9GcTVeiS2ozH6Q3Q9eQCkTEa62ipkJdsN-cXAensNWX3T-NRsCU2FYQ7nZdic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4495680" y="28195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n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1265 –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ptember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1321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orn to a patrician family of Alighiero di Bellincione and Bella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is mother, Bella, died before Dante was te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en he was twelve, he was promised in marriage to Gemma di Manetto Donati, but fell in love with Beatrice Portinari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e had three children; Pietro, Jacopo, and Antonia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tudied Tuscan poetry at the Sicilian Schoo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is love for Beatrice inspired his reason to write and liv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eatrice was a major topic in his poems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t age 18 he met Guido Cavalcanti, Lapo Gianni, Cino da Pistoia, and Brunetto Latini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ogether they became the leaders of the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Dolce Stil Novo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The Dolce Stil Novo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roup received a special mention for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La Divina Commedia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The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Divine Comedy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ther works include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Vita Nuova and Convivio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54" name="Picture 2" descr="http://urbangoblin.files.wordpress.com/2011/05/the_divine_comedy_book_dante_alighieri_arcturus.jpg"/>
          <p:cNvPicPr/>
          <p:nvPr/>
        </p:nvPicPr>
        <p:blipFill>
          <a:blip r:embed="rId2"/>
          <a:stretch/>
        </p:blipFill>
        <p:spPr>
          <a:xfrm>
            <a:off x="4648320" y="152280"/>
            <a:ext cx="4495680" cy="6705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3.undpress.nd.edu/covers/P00487.png"/>
          <p:cNvPicPr/>
          <p:nvPr/>
        </p:nvPicPr>
        <p:blipFill>
          <a:blip r:embed="rId3"/>
          <a:stretch/>
        </p:blipFill>
        <p:spPr>
          <a:xfrm>
            <a:off x="36360" y="152280"/>
            <a:ext cx="45356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335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Divine Comedy was written sometime between 1308 and 1321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scribes Dante’s journey through Inferno (Hell), Purgatorio (Purgatory) , and Paradiso (Paradise)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rst guided by the Roman poet Virgil, then by Beatric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nfern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art requires a certain amount of knowledge to appreciate,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Purgatori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was the most lyrical and human, whil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Paradis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is the most beautiful and ecstatic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Impact on the Renaissance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ften considered the finest poet in the Middle Ag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rote most of his poetry in Italian vernacular instead of Latin,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Work Cited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n-formatio.co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Undpress.nd.edu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Judianity.info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Georgia"/>
                <a:hlinkClick r:id="rId1"/>
              </a:rPr>
              <a:t>http://en.wikipedia.org/wiki/Dante_Alighieri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Georgia"/>
                <a:hlinkClick r:id="rId2"/>
              </a:rPr>
              <a:t>http://historymedren.about.com/library/who/blwwdante.ht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9:53:12Z</dcterms:created>
  <dc:creator>admin</dc:creator>
  <dc:description/>
  <dc:language>en-US</dc:language>
  <cp:lastModifiedBy>User</cp:lastModifiedBy>
  <dcterms:modified xsi:type="dcterms:W3CDTF">2012-01-27T00:25:02Z</dcterms:modified>
  <cp:revision>9</cp:revision>
  <dc:subject/>
  <dc:title>Slide 1</dc:title>
</cp:coreProperties>
</file>